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666-4848-44D2-AE33-CCA8DE52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A22-1ACD-4548-9712-226FEE77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6CF-72EA-437B-8831-E3247C8C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C95-8529-401A-995D-4C33521A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1736-FC8C-489F-89BA-F62595E0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C64B-9398-45A0-93B8-EA57FE8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FFF-E18D-4514-964B-3180FBDF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576-3B74-4C45-8C3B-F82F2BC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E86-664D-4A3A-827C-C923A15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651-F10A-4174-8263-C5C26293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2CAF-B56C-4135-ADD6-DCD531CE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43F-F0FC-48DA-86AF-349C3B6B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BD81-A425-448E-A9D5-0696860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3466-86F5-473B-935F-3FD60B1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5A91-C8EF-4DAB-8D4E-805BC939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9EAF-D596-4474-AB71-4A55AD75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8C19-D927-4965-B5AC-6DC6760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CB9-B961-46B3-AEBC-46FD29C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4DF-6DF8-4DDD-8AA7-7454E840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132-62B6-45DA-9B1D-5FD5C6B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8F7-C78C-4A97-A022-C9964710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032-EB32-497D-BCF7-428924A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2BB-9509-4EF5-847A-15AD46A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5D8-AF4D-492D-BB26-9110887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F11B-3DEB-4330-B5A4-1D0322C11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6DC-829F-465B-AB43-9293286FBB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01 Basic Home Tex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 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d, mildew, moth-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cts di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l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 and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YO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d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pes wel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washed with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rinks in hot wa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flamm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f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pc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li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lyes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&amp;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s stains &amp;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ly d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lended w/ co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stat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certain s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grade carpets wear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tains, window scarves, pleated sh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fill pillows and bedd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lefi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 stains &amp;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color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h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 to h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colors &amp;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 (indoor &amp; outd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rative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e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in home furnis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sp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rylic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arance &amp; feel of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 mildew &amp; moi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p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n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BRIC CONSTR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s: natural or manufactured fibers that are twisted together and woven into fabr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be dyed as individual yarns or as one whole piece fabric at a later tim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arn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or more sets of threads are interlaced at right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t of threads that run length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t of threads that run cross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AR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the direction threads run in a woven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a layer of fiber ends that stand up from the surface of the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e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yarn that is made from 2 or more types of fibers ex: natural &amp; manufactured. Produces a better quality product. Cotton/poly blend in drapes, bedding, 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implest pattern that is as strong one direction as it is in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ft yarn goes over and under each warp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ural Fib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from plants and animals</a:t>
            </a: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962520"/>
            <a:ext cx="38862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ose fi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from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 fib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from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has long floats (portions of yarn) on the surface of the fabric. Either the warp yarns or the weft yarns float over 4 or more opposite yarns, then go under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 smooth and slippery weave. Good for lining of drap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the warp or the weft passes over 2 or more yarns. Can be both even and unev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type of weave is stronger than a plain weave but tends to show soil less 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acqua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d for damask, tapestry, and broc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in very formal type of interiors, living rooms, dining rooms, p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ed for curtains and thermal blan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We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Wove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ade by joining fibers together by heat, moisture, chemicals, friction, an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: vinyl and other plast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xtile Fibers Product Identification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law specifies what must appear on the labe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ber content by highest % liste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ol Products Labeling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the manufacturer to include the labeling, identifying, and amount of natural fiber that comes from an animal. Must list the country of origin and % of each type of wool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lammable Fabrics Ac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that prevents manufacturers from producing and selling home interiors products that burn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pages 288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using and Interi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s 552-5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TT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rinks unless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ildew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flammable unles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home furnishings a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w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d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ntz upholst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LAX (Line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est natural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t-f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es w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ithstand frequent lau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nkles easi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flamm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ildew-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home furnishing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p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hol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clo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itchen tow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M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gloss or s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e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interiors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li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L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, smoo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in and wrinkle resis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orbent, dyes wel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hable or dry-c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d by bleach &amp; l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insect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p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mpsh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ll coverin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, dur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l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-la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il and fire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ns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rinks, may cause allergic rea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moth resis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 to clean if deeply s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    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h &amp; Berber car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 rugs (orie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n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imal Ski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ther: soft, resists stains, fading, c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: soft, can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in home furnishing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eather: uphol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ur: rugs, p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ed or Synthetic fi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-made with chemicals and other products. Can be combined with natural fibers to create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len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1:25:45Z</dcterms:created>
  <dc:creator> sherry brooks</dc:creator>
  <dc:description/>
  <dc:language>en-US</dc:language>
  <cp:lastModifiedBy>s.brooks</cp:lastModifiedBy>
  <dcterms:modified xsi:type="dcterms:W3CDTF">2010-03-15T17:57:53Z</dcterms:modified>
  <cp:revision>22</cp:revision>
  <dc:subject/>
  <dc:title>Housing 1</dc:title>
</cp:coreProperties>
</file>